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C8CC-A9C1-4EAB-99BF-535163CA1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16DB-1D93-477A-9277-E524EC903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12E9-CE81-4503-A9F5-B8A45455B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539E-C1DB-4D27-82C7-5761C2BF9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BA58-6E12-4CE4-B5A4-157098260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89BB-A62C-4261-9134-4E91023F4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D7B0-8A03-4852-AADF-1CF703055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EBA7-9B04-4082-A354-284C321BF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38DF-A57C-4283-90A6-9FCBC211B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68E7-34FB-4CCC-B962-B4DFA204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7837-AB04-455B-9808-336D23BC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2D59-E5ED-47FC-BF69-CC6ACF33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45C39-40E9-47E5-A152-D99ABBDDE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3320" y="290520"/>
            <a:ext cx="4066920" cy="39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scribe el número roma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5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2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4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999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6840" y="4865760"/>
            <a:ext cx="4065480" cy="39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scribe el número roma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5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2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4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999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3520" y="290520"/>
            <a:ext cx="4067280" cy="39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scribe el número roma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5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2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4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999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03520" y="4770360"/>
            <a:ext cx="4065840" cy="39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scribe el número roma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5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2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4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999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15920" y="115920"/>
            <a:ext cx="3049560" cy="45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scribe el número roma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M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MMVI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L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XCI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CCLCCV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MDXXX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XLI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CCXC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V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45000" y="108000"/>
            <a:ext cx="3049560" cy="45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scribe el número roma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M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MMVI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L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XCI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CCLCCV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MDXXX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XLI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CCXC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V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5920" y="4537080"/>
            <a:ext cx="3049560" cy="45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scribe el número roma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M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MMVI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L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XCI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CCLCCV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MDXXX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XLI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CCXC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V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45000" y="4529160"/>
            <a:ext cx="3049560" cy="45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scribe el número roma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M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MMVI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L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XCI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CCLCCV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MDXXX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XLI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CCXC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V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115920" y="216000"/>
            <a:ext cx="6697800" cy="2842920"/>
            <a:chOff x="115920" y="216000"/>
            <a:chExt cx="6697800" cy="2842920"/>
          </a:xfrm>
        </p:grpSpPr>
        <p:grpSp>
          <p:nvGrpSpPr>
            <p:cNvPr id="50" name=""/>
            <p:cNvGrpSpPr/>
            <p:nvPr/>
          </p:nvGrpSpPr>
          <p:grpSpPr>
            <a:xfrm>
              <a:off x="2997360" y="216000"/>
              <a:ext cx="836280" cy="2013120"/>
              <a:chOff x="2997360" y="216000"/>
              <a:chExt cx="836280" cy="2013120"/>
            </a:xfrm>
          </p:grpSpPr>
          <p:sp>
            <p:nvSpPr>
              <p:cNvPr id="51" name=""/>
              <p:cNvSpPr/>
              <p:nvPr/>
            </p:nvSpPr>
            <p:spPr>
              <a:xfrm>
                <a:off x="2997360" y="216000"/>
                <a:ext cx="836280" cy="20131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2997360" y="1197360"/>
                <a:ext cx="81972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5977080" y="216000"/>
              <a:ext cx="836640" cy="2013120"/>
              <a:chOff x="5977080" y="216000"/>
              <a:chExt cx="836640" cy="2013120"/>
            </a:xfrm>
          </p:grpSpPr>
          <p:sp>
            <p:nvSpPr>
              <p:cNvPr id="54" name=""/>
              <p:cNvSpPr/>
              <p:nvPr/>
            </p:nvSpPr>
            <p:spPr>
              <a:xfrm>
                <a:off x="5977080" y="216000"/>
                <a:ext cx="836640" cy="20131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5977080" y="1197360"/>
                <a:ext cx="82008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5040360" y="216000"/>
              <a:ext cx="836640" cy="2013120"/>
              <a:chOff x="5040360" y="216000"/>
              <a:chExt cx="836640" cy="2013120"/>
            </a:xfrm>
          </p:grpSpPr>
          <p:sp>
            <p:nvSpPr>
              <p:cNvPr id="57" name=""/>
              <p:cNvSpPr/>
              <p:nvPr/>
            </p:nvSpPr>
            <p:spPr>
              <a:xfrm>
                <a:off x="5040360" y="216000"/>
                <a:ext cx="836640" cy="20131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040360" y="1197360"/>
                <a:ext cx="82008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4005360" y="216000"/>
              <a:ext cx="836640" cy="2013120"/>
              <a:chOff x="4005360" y="216000"/>
              <a:chExt cx="836640" cy="2013120"/>
            </a:xfrm>
          </p:grpSpPr>
          <p:sp>
            <p:nvSpPr>
              <p:cNvPr id="60" name=""/>
              <p:cNvSpPr/>
              <p:nvPr/>
            </p:nvSpPr>
            <p:spPr>
              <a:xfrm>
                <a:off x="4005360" y="216000"/>
                <a:ext cx="836640" cy="20131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005360" y="1197360"/>
                <a:ext cx="82008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2060640" y="216000"/>
              <a:ext cx="836640" cy="2013120"/>
              <a:chOff x="2060640" y="216000"/>
              <a:chExt cx="836640" cy="2013120"/>
            </a:xfrm>
          </p:grpSpPr>
          <p:sp>
            <p:nvSpPr>
              <p:cNvPr id="63" name=""/>
              <p:cNvSpPr/>
              <p:nvPr/>
            </p:nvSpPr>
            <p:spPr>
              <a:xfrm>
                <a:off x="2060640" y="216000"/>
                <a:ext cx="836640" cy="20131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060640" y="1197360"/>
                <a:ext cx="82008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1052640" y="279000"/>
              <a:ext cx="836640" cy="2013480"/>
              <a:chOff x="1052640" y="279000"/>
              <a:chExt cx="836640" cy="2013480"/>
            </a:xfrm>
          </p:grpSpPr>
          <p:sp>
            <p:nvSpPr>
              <p:cNvPr id="66" name=""/>
              <p:cNvSpPr/>
              <p:nvPr/>
            </p:nvSpPr>
            <p:spPr>
              <a:xfrm>
                <a:off x="1052640" y="279000"/>
                <a:ext cx="836640" cy="20134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052640" y="1260360"/>
                <a:ext cx="82008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115920" y="246960"/>
              <a:ext cx="836640" cy="2013120"/>
              <a:chOff x="115920" y="246960"/>
              <a:chExt cx="836640" cy="2013120"/>
            </a:xfrm>
          </p:grpSpPr>
          <p:sp>
            <p:nvSpPr>
              <p:cNvPr id="69" name=""/>
              <p:cNvSpPr/>
              <p:nvPr/>
            </p:nvSpPr>
            <p:spPr>
              <a:xfrm>
                <a:off x="115920" y="246960"/>
                <a:ext cx="836640" cy="20131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15920" y="1228320"/>
                <a:ext cx="82008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" name=""/>
            <p:cNvSpPr/>
            <p:nvPr/>
          </p:nvSpPr>
          <p:spPr>
            <a:xfrm>
              <a:off x="216000" y="2547720"/>
              <a:ext cx="549000" cy="511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119640" y="2547720"/>
              <a:ext cx="549360" cy="511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184720" y="2547720"/>
              <a:ext cx="549360" cy="511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175280" y="2547720"/>
              <a:ext cx="549000" cy="511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141720" y="2547720"/>
              <a:ext cx="549360" cy="511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232000" y="2547720"/>
              <a:ext cx="549360" cy="511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224000" y="2547720"/>
              <a:ext cx="549360" cy="511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115920" y="3203640"/>
            <a:ext cx="6697800" cy="2842920"/>
            <a:chOff x="115920" y="3203640"/>
            <a:chExt cx="6697800" cy="2842920"/>
          </a:xfrm>
        </p:grpSpPr>
        <p:grpSp>
          <p:nvGrpSpPr>
            <p:cNvPr id="79" name=""/>
            <p:cNvGrpSpPr/>
            <p:nvPr/>
          </p:nvGrpSpPr>
          <p:grpSpPr>
            <a:xfrm>
              <a:off x="2997360" y="3203640"/>
              <a:ext cx="836280" cy="2013120"/>
              <a:chOff x="2997360" y="3203640"/>
              <a:chExt cx="836280" cy="2013120"/>
            </a:xfrm>
          </p:grpSpPr>
          <p:sp>
            <p:nvSpPr>
              <p:cNvPr id="80" name=""/>
              <p:cNvSpPr/>
              <p:nvPr/>
            </p:nvSpPr>
            <p:spPr>
              <a:xfrm>
                <a:off x="2997360" y="3203640"/>
                <a:ext cx="836280" cy="20131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997360" y="4185000"/>
                <a:ext cx="81972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5977080" y="3203640"/>
              <a:ext cx="836640" cy="2013120"/>
              <a:chOff x="5977080" y="3203640"/>
              <a:chExt cx="836640" cy="2013120"/>
            </a:xfrm>
          </p:grpSpPr>
          <p:sp>
            <p:nvSpPr>
              <p:cNvPr id="83" name=""/>
              <p:cNvSpPr/>
              <p:nvPr/>
            </p:nvSpPr>
            <p:spPr>
              <a:xfrm>
                <a:off x="5977080" y="3203640"/>
                <a:ext cx="836640" cy="20131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977080" y="4185000"/>
                <a:ext cx="82008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5040360" y="3203640"/>
              <a:ext cx="836640" cy="2013120"/>
              <a:chOff x="5040360" y="3203640"/>
              <a:chExt cx="836640" cy="2013120"/>
            </a:xfrm>
          </p:grpSpPr>
          <p:sp>
            <p:nvSpPr>
              <p:cNvPr id="86" name=""/>
              <p:cNvSpPr/>
              <p:nvPr/>
            </p:nvSpPr>
            <p:spPr>
              <a:xfrm>
                <a:off x="5040360" y="3203640"/>
                <a:ext cx="836640" cy="20131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040360" y="4185000"/>
                <a:ext cx="82008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4005360" y="3203640"/>
              <a:ext cx="836640" cy="2013120"/>
              <a:chOff x="4005360" y="3203640"/>
              <a:chExt cx="836640" cy="2013120"/>
            </a:xfrm>
          </p:grpSpPr>
          <p:sp>
            <p:nvSpPr>
              <p:cNvPr id="89" name=""/>
              <p:cNvSpPr/>
              <p:nvPr/>
            </p:nvSpPr>
            <p:spPr>
              <a:xfrm>
                <a:off x="4005360" y="3203640"/>
                <a:ext cx="836640" cy="20131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005360" y="4185000"/>
                <a:ext cx="82008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2060640" y="3203640"/>
              <a:ext cx="836640" cy="2013120"/>
              <a:chOff x="2060640" y="3203640"/>
              <a:chExt cx="836640" cy="2013120"/>
            </a:xfrm>
          </p:grpSpPr>
          <p:sp>
            <p:nvSpPr>
              <p:cNvPr id="92" name=""/>
              <p:cNvSpPr/>
              <p:nvPr/>
            </p:nvSpPr>
            <p:spPr>
              <a:xfrm>
                <a:off x="2060640" y="3203640"/>
                <a:ext cx="836640" cy="20131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060640" y="4185000"/>
                <a:ext cx="82008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1052640" y="3266640"/>
              <a:ext cx="836640" cy="2013480"/>
              <a:chOff x="1052640" y="3266640"/>
              <a:chExt cx="836640" cy="2013480"/>
            </a:xfrm>
          </p:grpSpPr>
          <p:sp>
            <p:nvSpPr>
              <p:cNvPr id="95" name=""/>
              <p:cNvSpPr/>
              <p:nvPr/>
            </p:nvSpPr>
            <p:spPr>
              <a:xfrm>
                <a:off x="1052640" y="3266640"/>
                <a:ext cx="836640" cy="20134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052640" y="4248000"/>
                <a:ext cx="82008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115920" y="3234600"/>
              <a:ext cx="836640" cy="2013120"/>
              <a:chOff x="115920" y="3234600"/>
              <a:chExt cx="836640" cy="2013120"/>
            </a:xfrm>
          </p:grpSpPr>
          <p:sp>
            <p:nvSpPr>
              <p:cNvPr id="98" name=""/>
              <p:cNvSpPr/>
              <p:nvPr/>
            </p:nvSpPr>
            <p:spPr>
              <a:xfrm>
                <a:off x="115920" y="3234600"/>
                <a:ext cx="836640" cy="20131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15920" y="4215960"/>
                <a:ext cx="82008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216000" y="5535360"/>
              <a:ext cx="549000" cy="511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119640" y="5535360"/>
              <a:ext cx="549360" cy="511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184720" y="5535360"/>
              <a:ext cx="549360" cy="511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175280" y="5535360"/>
              <a:ext cx="549000" cy="511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141720" y="5535360"/>
              <a:ext cx="549360" cy="511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32000" y="5535360"/>
              <a:ext cx="549360" cy="511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224000" y="5535360"/>
              <a:ext cx="549360" cy="511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15920" y="6192720"/>
            <a:ext cx="6697800" cy="2842920"/>
            <a:chOff x="115920" y="6192720"/>
            <a:chExt cx="6697800" cy="2842920"/>
          </a:xfrm>
        </p:grpSpPr>
        <p:grpSp>
          <p:nvGrpSpPr>
            <p:cNvPr id="108" name=""/>
            <p:cNvGrpSpPr/>
            <p:nvPr/>
          </p:nvGrpSpPr>
          <p:grpSpPr>
            <a:xfrm>
              <a:off x="2997360" y="6192720"/>
              <a:ext cx="836280" cy="2013120"/>
              <a:chOff x="2997360" y="6192720"/>
              <a:chExt cx="836280" cy="2013120"/>
            </a:xfrm>
          </p:grpSpPr>
          <p:sp>
            <p:nvSpPr>
              <p:cNvPr id="109" name=""/>
              <p:cNvSpPr/>
              <p:nvPr/>
            </p:nvSpPr>
            <p:spPr>
              <a:xfrm>
                <a:off x="2997360" y="6192720"/>
                <a:ext cx="836280" cy="20131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997360" y="7174080"/>
                <a:ext cx="81972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5977080" y="6192720"/>
              <a:ext cx="836640" cy="2013120"/>
              <a:chOff x="5977080" y="6192720"/>
              <a:chExt cx="836640" cy="2013120"/>
            </a:xfrm>
          </p:grpSpPr>
          <p:sp>
            <p:nvSpPr>
              <p:cNvPr id="112" name=""/>
              <p:cNvSpPr/>
              <p:nvPr/>
            </p:nvSpPr>
            <p:spPr>
              <a:xfrm>
                <a:off x="5977080" y="6192720"/>
                <a:ext cx="836640" cy="20131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977080" y="7174080"/>
                <a:ext cx="82008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5040360" y="6192720"/>
              <a:ext cx="836640" cy="2013120"/>
              <a:chOff x="5040360" y="6192720"/>
              <a:chExt cx="836640" cy="2013120"/>
            </a:xfrm>
          </p:grpSpPr>
          <p:sp>
            <p:nvSpPr>
              <p:cNvPr id="115" name=""/>
              <p:cNvSpPr/>
              <p:nvPr/>
            </p:nvSpPr>
            <p:spPr>
              <a:xfrm>
                <a:off x="5040360" y="6192720"/>
                <a:ext cx="836640" cy="20131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040360" y="7174080"/>
                <a:ext cx="82008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4005360" y="6192720"/>
              <a:ext cx="836640" cy="2013120"/>
              <a:chOff x="4005360" y="6192720"/>
              <a:chExt cx="836640" cy="2013120"/>
            </a:xfrm>
          </p:grpSpPr>
          <p:sp>
            <p:nvSpPr>
              <p:cNvPr id="118" name=""/>
              <p:cNvSpPr/>
              <p:nvPr/>
            </p:nvSpPr>
            <p:spPr>
              <a:xfrm>
                <a:off x="4005360" y="6192720"/>
                <a:ext cx="836640" cy="20131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005360" y="7174080"/>
                <a:ext cx="82008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060640" y="6192720"/>
              <a:ext cx="836640" cy="2013120"/>
              <a:chOff x="2060640" y="6192720"/>
              <a:chExt cx="836640" cy="2013120"/>
            </a:xfrm>
          </p:grpSpPr>
          <p:sp>
            <p:nvSpPr>
              <p:cNvPr id="121" name=""/>
              <p:cNvSpPr/>
              <p:nvPr/>
            </p:nvSpPr>
            <p:spPr>
              <a:xfrm>
                <a:off x="2060640" y="6192720"/>
                <a:ext cx="836640" cy="20131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060640" y="7174080"/>
                <a:ext cx="82008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1052640" y="6255720"/>
              <a:ext cx="836640" cy="2013480"/>
              <a:chOff x="1052640" y="6255720"/>
              <a:chExt cx="836640" cy="2013480"/>
            </a:xfrm>
          </p:grpSpPr>
          <p:sp>
            <p:nvSpPr>
              <p:cNvPr id="124" name=""/>
              <p:cNvSpPr/>
              <p:nvPr/>
            </p:nvSpPr>
            <p:spPr>
              <a:xfrm>
                <a:off x="1052640" y="6255720"/>
                <a:ext cx="836640" cy="20134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052640" y="7237080"/>
                <a:ext cx="82008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115920" y="6223680"/>
              <a:ext cx="836640" cy="2013120"/>
              <a:chOff x="115920" y="6223680"/>
              <a:chExt cx="836640" cy="2013120"/>
            </a:xfrm>
          </p:grpSpPr>
          <p:sp>
            <p:nvSpPr>
              <p:cNvPr id="127" name=""/>
              <p:cNvSpPr/>
              <p:nvPr/>
            </p:nvSpPr>
            <p:spPr>
              <a:xfrm>
                <a:off x="115920" y="6223680"/>
                <a:ext cx="836640" cy="20131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15920" y="7205040"/>
                <a:ext cx="82008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216000" y="8524440"/>
              <a:ext cx="549000" cy="511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19640" y="8524440"/>
              <a:ext cx="549360" cy="511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184720" y="8524440"/>
              <a:ext cx="549360" cy="511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175280" y="8524440"/>
              <a:ext cx="549000" cy="511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141720" y="8524440"/>
              <a:ext cx="549360" cy="511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232000" y="8524440"/>
              <a:ext cx="549360" cy="511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224000" y="8524440"/>
              <a:ext cx="549360" cy="511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5:54:56Z</dcterms:created>
  <dc:creator>Usuario</dc:creator>
  <dc:description/>
  <dc:language>en-US</dc:language>
  <cp:lastModifiedBy>Usuario</cp:lastModifiedBy>
  <dcterms:modified xsi:type="dcterms:W3CDTF">2008-02-11T18:30:31Z</dcterms:modified>
  <cp:revision>2</cp:revision>
  <dc:subject/>
  <dc:title>Diapositiva 1</dc:title>
</cp:coreProperties>
</file>